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F07-7B8B-436C-BAF3-A3511662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55D-D806-4472-ADAB-C720E826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C5D-3E5E-4595-85CD-1C1BC399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9AD-BAF7-4643-838C-E74A27CE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1A2-CC35-45C4-BBE5-49B9C705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472-00C5-4B55-BA49-99F738A7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CFB-70FB-4C6A-941C-B6F9DEB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0B5-D0EB-4BFD-83A4-D897282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CDE-83AB-4305-84A2-A178562E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8BD-8826-459F-A2FA-7C120D5A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F56-F8DD-4630-8E2C-50709F7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E1B-5BA1-445A-A7D5-3FBA851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77D9B-87C7-42EE-B4C9-22F9BD7E2C4E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Teoría general de Sistem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863640" indent="-646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¿Qué no es sistem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71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Cómo saber si algo es un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Puede identificar las par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Las partes se afectan entre ell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Las partes juntas producen un efecto distinto  a cada parte por sepa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-6094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¿El efecto, comportamiento a lo largo del tiempo, persiste en diferentes circunstanci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7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Propiedades de un sistema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oción de Integ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ntes diná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n flexi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e auto-organiz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ponentes de un sistem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 Es lo más visible de un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aíz, tallo,Hojas, Flores, Fr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ás detallado → Canales, Cloropla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tudiantes, Profesores, Edi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tigio, Productividad  (Intangi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Interrel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ensajes quí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Canales de Fluidos (Sav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stándares de Ad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glas para el 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unciones o propósitos</a:t>
            </a: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o más difícil de ver. (Soretodo si no se conoce el sistem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Ár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roduci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trirse al má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Nuevo Cono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ormación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an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Adoctr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 y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, fundamento de to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on los elementos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e ven, se sienten, se cuentan se m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una acumulación de algo que se ha construido a lo alergo del tiempo. (Material, Información, etc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reserv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gua en un depó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adera en un árbol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inero en una cu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uto es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s reservas no tienen que ser fís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as reservas cambien gracias a los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s de Fluj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acimientos, mue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ompras, 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recimiento, deca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pósitos, ret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xitos, frac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es la memoria presente de la historia de los cambios de flujo a través de un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1: Mina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 depósito de mineral es una reser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De ella sale un flujo  (Producción de la 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flujo de entrada toma siglos en produci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800360" y="4140360"/>
            <a:ext cx="56163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2  Agua en una repres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31640" y="2700360"/>
            <a:ext cx="9074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Frase de Meadow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7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7200" spc="-1" strike="noStrike">
                <a:solidFill>
                  <a:srgbClr val="000000"/>
                </a:solidFill>
                <a:latin typeface="Arial"/>
              </a:rPr>
              <a:t>El Comportamiento está latente en la estructura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 3 : Madera en un Bosqu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3280" y="1908000"/>
            <a:ext cx="9145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Nivel de agua cuando se quita el ta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60360" y="1763640"/>
            <a:ext cx="9001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Agua en una bañera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2266560"/>
            <a:ext cx="9069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Abre el tapón y luego se abre el gri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328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280" y="1979640"/>
            <a:ext cx="90691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4920" y="2200320"/>
            <a:ext cx="9069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rmAutofit/>
          </a:bodyPr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19280" y="1908000"/>
            <a:ext cx="4575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enfocarse en reservas que en flu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ás fácil flujos de entrada que de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lenar una bañ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umentando el flujo del gr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Disminuyendo el tamaño del táp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Fuerza de trabajo en una emp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ás trabaj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duciendo los desp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Una reserva toma tiempo en camb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toman tiempo en fl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ervas cambian lent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Vaciar una bañ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recimiento de una pob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Madera en un bo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uperar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Los flujos de entrada y salida rara vez están balance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Producción de petroleo = Consu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tock de productos = dema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Recibo del sueldo = gasto del Din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or eso existen las reservas, Entrada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 Sal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Tan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Bod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Pensamiento Sistémic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reservas junto con sus mecanismos de regulación de entrada y salida de fluj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O lo que es equiva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Ver el mundo como una colección de </a:t>
            </a: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procesos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servas, Flujos y Retroaliment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Cuando una reserva crece, decrece o es est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muy seguramente hay un mecanismo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trabaj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hay un comportamiento que persiste  en el tiempo, hay un mecanismo que está creando este comportamient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El mecanismo es un  Bucle de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Ejemplo: Cuenta Bancari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stado de cuent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 Reser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Si es baja 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Consigo más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alta</a:t>
            </a:r>
            <a:r>
              <a:rPr b="0" lang="es-CO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 Trabajo m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Dos maneras de estab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In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Conseguir más 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Outflow </a:t>
            </a:r>
            <a:r>
              <a:rPr b="0" lang="es-CO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Gastar m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80000" y="2843280"/>
            <a:ext cx="4924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¿Pregunt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humana ocurre sin un bucle de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Qué decisión es realizada sin tener en cuenta información del nivel de la reserva que involuc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s comu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Enamor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Arial"/>
              </a:rPr>
              <a:t>Cometer Suici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¿En estos casos no hay retroaliment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¿Qué es un sistema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Conjunto de partes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interrelacionadas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de tal manera que producen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patrones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de comportamiento con el </a:t>
            </a:r>
            <a:r>
              <a:rPr b="1" lang="fi-FI" sz="4800" spc="-1" strike="noStrike">
                <a:solidFill>
                  <a:srgbClr val="000000"/>
                </a:solidFill>
                <a:latin typeface="Arial"/>
              </a:rPr>
              <a:t>tiemp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Regla úti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l tiempo que toma a una reserva doblar su cantidad, es aprox igual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70/ (rata de creci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: $100 en un banco al 7%, en cuanto tiempo tengo $2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spuesta:  70/ 7 = 10 año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O" sz="44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empre que observe que A causa B, piense en como B puede a su vez afectar 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Si el crecimiento de población produce pobreza, cómo la pobreza puede producir crecimi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Retroalimentación induce a la idea de que un sistema puede causar su propio comportamiento ( no culpar a los otr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egunta : ¿Quién es el culp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Nueva Pregunta: ¿Cuál es el siste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Sistemas y Causas Externa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íticos causan recesión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mpetidores procucen pérdida de cuota de mer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 gripa no lo ataca, Se crean condiciones para que florez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dicción a la droga no es la caida de un individuo (Nadie solo puede curar a un adic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Definición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Conjunto de elementos conectados coherentemente y organizados de tal manera que producen algo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Componentes de un sistema</a:t>
            </a: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Elementos (Agent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Interela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Función o propós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jemplo 1: Sistema Digestiv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ientes, Enzimas, Estómago, Intest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er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lujo de comida, Señales químicas regul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scomponer comida en nutriente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ransferir nutrientes a la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Desechar res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Ejemplo 2: Equipo de Fútbo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Jugadors,Entrenador, campo,bal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terrel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Reglas del juego, estrategia del entrenador, comunicciones entre jugaodres, leyes de la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un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Ganar juegos, hacer ejercicio, hacer dinero (o to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Otros Ejemplo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legio,Ciu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ábrica, Economía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un animal, un árbol, un Bo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a tierrra, sistema solar, Galax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5:25:17Z</dcterms:created>
  <dc:creator>alf </dc:creator>
  <dc:description/>
  <dc:language>en-US</dc:language>
  <cp:lastModifiedBy>WinuE</cp:lastModifiedBy>
  <dcterms:modified xsi:type="dcterms:W3CDTF">2012-02-28T16:30:58Z</dcterms:modified>
  <cp:revision>20</cp:revision>
  <dc:subject/>
  <dc:title>Teoría general de Sistemas</dc:title>
</cp:coreProperties>
</file>